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CA280-F501-4C6C-8A4F-CEFC93489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45BBD-03BB-45FA-B3ED-F770CA194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2D330-BD95-42A8-8B6E-96DF35AB3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9C8AF-9BD6-4CE6-864F-803ADED04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04CEB-041D-4FE1-8DF6-2290A4948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1FB8-2135-4E05-8CD3-435B0289D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7E5D-A381-45CE-B1D9-5D55DDC6F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F63FE-5AA5-4CE8-A23A-AB89F210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E17E-00DC-4802-BA9C-8F59CFADF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5A34A-C824-496A-BFEE-5CC3FC4AE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A88CF-480A-4A13-B3E1-2D5EB8270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0781-3841-4279-9EE2-D86F87023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A945-27A1-4567-A916-209105CCB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0880" y="-76320"/>
            <a:ext cx="9677160" cy="7102440"/>
          </a:xfrm>
          <a:prstGeom prst="rect">
            <a:avLst/>
          </a:prstGeom>
          <a:ln w="0">
            <a:noFill/>
          </a:ln>
        </p:spPr>
      </p:pic>
      <p:sp>
        <p:nvSpPr>
          <p:cNvPr id="42" name=""/>
          <p:cNvSpPr/>
          <p:nvPr/>
        </p:nvSpPr>
        <p:spPr>
          <a:xfrm>
            <a:off x="838080" y="762120"/>
            <a:ext cx="7467840" cy="5208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ater is one of Pennsylvania’s most precious and basic resources. Pennsylvanians use 14.3 billion gallons of water every day. Almost all of it -- 13.7 billion gallons -- is returned to the environment. That means that each of us has a special responsibility to use water in ways that do not harm aquatic life and other water users downstream. But we also must be concerned about water in other ways. Our activities, as individuals and as communities, can have a big impact on the severity and frequency of floods that cause loss of life and property damage.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treams, lakes, and other bodies of water are affected by what happens in their watersheds -- the land areas that drain to them. More and more people are working to improve and protect Pennsylvania's watersheds, by learning about their watersheds and sharing that information with their neighbors, by restoring water quality through hands-on projects, and by planning for future water resources management. The State Water Plan, originally developed in the 1970s, divided Pennsylvania's major river basins into 20 smaller units (subbasins) for planning purposes. Most of these subbasins are further divided into watershed areas (designated "A", "B", "C" etc.) that range in size from about 100 to 1000 square mile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4:03:38Z</dcterms:created>
  <dc:creator>kennedyp</dc:creator>
  <dc:description/>
  <dc:language>en-US</dc:language>
  <cp:lastModifiedBy>kennedyp</cp:lastModifiedBy>
  <dcterms:modified xsi:type="dcterms:W3CDTF">2009-12-22T14:25:09Z</dcterms:modified>
  <cp:revision>5</cp:revision>
  <dc:subject/>
  <dc:title>Slide 1</dc:title>
</cp:coreProperties>
</file>